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water.wav" ContentType="audio/x-wav"/>
  <Override PartName="/ppt/media/CHEEPCHP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FE7-CCEE-489D-9C7B-881DC211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6EE-676C-4C12-8202-B117EC7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B75-AF01-4642-ACD5-F78E3733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D0B-9FA0-4334-82D0-C1D2347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096-5C01-462C-A907-E23718BE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6D2F-5B96-4AC7-BFEB-CB5F186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D282-4068-4C2B-BE35-C1D38C2A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79F6-7F5D-4829-AC44-547AEF0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2B8-BC21-4F12-818B-33A5BEE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D90-6C04-4690-A983-EECBA16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A0B-AEAD-4542-AC58-70344EC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427-78F1-4620-B4F4-7A5E360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186-6230-40EF-9AC2-6CFD708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C4AC-17C9-456A-A252-259BC1C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9E86-18A4-4594-B035-C6857EE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1A30-7378-4A62-9215-89E10CCC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60C6-B2A5-40B8-AA92-6E7903DE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312-AC2B-4FFB-BAAC-8172278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EF3-AB75-4557-89CA-53ECE20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8D0-0FFA-4DFB-81E0-5E77464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AC5-DF93-40FC-A8BB-F407F21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1B0-5ED8-49B9-B499-70615AF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0E4-39C4-41D4-B2F9-4B202EC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403-C3FD-4E93-AEAC-18E1D5F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EC7-7CFD-401F-BE64-746E6A0DD4D0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FB1-B464-4F8C-8DD4-E6C9FEB2DB3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PCHP.WAV"/><Relationship Id="rId3" Type="http://schemas.openxmlformats.org/officeDocument/2006/relationships/audio" Target="../media/CHEEPCHP.WAV"/><Relationship Id="rId4" Type="http://schemas.openxmlformats.org/officeDocument/2006/relationships/audio" Target="../media/CHEEPCHP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268280"/>
            <a:ext cx="3541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الدرس الثانى </a:t>
            </a:r>
            <a:endParaRPr b="1" lang="en-US" sz="54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3346560"/>
            <a:ext cx="71377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latin typeface="Hesham Fostat"/>
              </a:rPr>
              <a:t>المخاليط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2637000"/>
            <a:ext cx="7812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اَلْمَخْلوطُ شَيْئَانِ أَوْ أَشْيَاءٌ مُخْتَلِفَةٌ تَخْتَلِطُ مَعًا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لا تَتَغَيَّرُ المَوادُّ الصُّلْبَةُ عَادَةً عِنْدَ خَلْطِها، وَيُمْكِنُني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رُؤْيَتُها في الْمَخْلوطِ وَفَصْلُ بَعْضِها عَنْ بَعْضٍ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1238400"/>
            <a:ext cx="5748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ما اَلْمَخْلوطُ</a:t>
            </a: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421000"/>
            <a:ext cx="7704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عِنْدَما أخْلِطُ الْمَوادَّ الصُّلْبَةَ بالْماِء، فَإِنَّ بَعْضَها يَطْفُو عَلى سَطْحِ الْماءِ، وَبَعْضَها الآخَرَ يَنْغَمِرُ</a:t>
            </a: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73320" y="1197000"/>
            <a:ext cx="641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600" spc="-1" strike="noStrike">
                <a:solidFill>
                  <a:srgbClr val="000000"/>
                </a:solidFill>
                <a:latin typeface="Times New Roman"/>
              </a:rPr>
              <a:t>خلط المواد الصلبة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44520"/>
            <a:ext cx="2087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773360"/>
            <a:ext cx="849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بَعْضُ المَوَادِّ الصُّلْبَةِ يَذُوْبُ في السَّوَائلِ؛ الذَّوَبَانُ امْتِزَاجُ الْمَادَّةِ كُلِّيَّا بِالسَّائِلِ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هَذا النَّوْعُ مِنَ الْمَخَالِيْطِ يَصْعُبُ فَصْلُ مُكَوِّناتِهِ بَعْضِها عَنْ بَعْضٍ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0280" y="549360"/>
            <a:ext cx="575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0000"/>
                </a:solidFill>
                <a:latin typeface="Times New Roman"/>
              </a:rPr>
              <a:t>مَخاليطُ أُخْرى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2997360"/>
            <a:ext cx="7920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بَعْضُ السَّوائِلِ، ومْنها الْماءُ، والزَّيْتُ، لا يُمْكِنُ خَلْطُه، فَيَبْقَى مُنْفَصِلاً بَعْضُهُ عَنْ بَعْضٍ</a:t>
            </a:r>
            <a:r>
              <a:rPr b="1" lang="ar-SA" sz="5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3840" y="1484280"/>
            <a:ext cx="782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سوائل لا يمكن خلطها</a:t>
            </a: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30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7:52:41Z</dcterms:modified>
  <cp:revision>33</cp:revision>
  <dc:subject/>
  <dc:title>PowerPoint Presentation</dc:title>
</cp:coreProperties>
</file>